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5D48-9076-42A3-8C51-48E0D15D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2F33-2FED-40F4-9C67-CB7D8157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AAB6-4E2A-4F0A-A606-2435D97D5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63C5-DF66-4FF7-8340-193F95ADA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1834-66D3-4488-8E32-2C8151A9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0D8E-9569-428E-81CA-0509000D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3960-97CB-4497-82F0-5EEAD5B6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6300-0C66-4C38-9FC9-4FF6D98B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92B6-FDA0-4D92-9BF7-C233EE30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4E32-0031-43E0-ACCD-404ADF90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A061-2D62-4B5C-8AED-93461FB7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F145-003E-40ED-BE09-6F467EC5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45CA-46ED-489F-9538-C5CDA88BC4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0_334b2_fc55b081_XL"/>
          <p:cNvPicPr/>
          <p:nvPr/>
        </p:nvPicPr>
        <p:blipFill>
          <a:blip r:embed="rId1">
            <a:lum bright="20000"/>
          </a:blip>
          <a:srcRect l="7087" t="0" r="7087" b="0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  <a:effectLst>
            <a:outerShdw dist="56832" dir="3796358" blurRad="0" rotWithShape="0">
              <a:srgbClr val="808080">
                <a:alpha val="50000"/>
              </a:srgbClr>
            </a:outerShdw>
          </a:effectLst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97556896_1"/>
          <p:cNvPicPr/>
          <p:nvPr/>
        </p:nvPicPr>
        <p:blipFill>
          <a:blip r:embed="rId2">
            <a:lum bright="60000"/>
          </a:blip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1763640" y="1916280"/>
            <a:ext cx="60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3399"/>
                </a:solidFill>
                <a:latin typeface="Arial"/>
              </a:rPr>
              <a:t>Основные понятия о бюджете</a:t>
            </a:r>
            <a:endParaRPr b="0" i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9" descr="C:\Users\ker\Desktop\МОЁ\прочее\- animashka\тематика\13.jpg"/>
          <p:cNvPicPr/>
          <p:nvPr/>
        </p:nvPicPr>
        <p:blipFill>
          <a:blip r:embed="rId3"/>
          <a:stretch/>
        </p:blipFill>
        <p:spPr>
          <a:xfrm>
            <a:off x="0" y="4479840"/>
            <a:ext cx="388944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97556896_1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05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Мы должны обеспечить большую прозрачность и открытость бюджетного процесса для граждан. Это одно из ключевых условий повышения эффективности госинвестиций, всей бюджетной политик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4932360" y="1700280"/>
            <a:ext cx="384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слание Президента РФ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О бюджетной политик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 2014 год и на плановый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риод 2015 и 2016 годов»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3854249bdfbc7987a373a750e712e03f"/>
          <p:cNvPicPr/>
          <p:nvPr/>
        </p:nvPicPr>
        <p:blipFill>
          <a:blip r:embed="rId2"/>
          <a:stretch/>
        </p:blipFill>
        <p:spPr>
          <a:xfrm>
            <a:off x="1979640" y="1628640"/>
            <a:ext cx="2448000" cy="18003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42840" y="3645000"/>
            <a:ext cx="8777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Граждане и бизнес должны знать, куда направляются уплачиваемые ими налоги. Это требует высокого уровня прозрачности бюджета и бюджетного процесса»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5076720" y="4941720"/>
            <a:ext cx="376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митрий Медведев,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едседатель Правительства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оссийской Федераци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prog"/>
          <p:cNvPicPr/>
          <p:nvPr/>
        </p:nvPicPr>
        <p:blipFill>
          <a:blip r:embed="rId3"/>
          <a:stretch/>
        </p:blipFill>
        <p:spPr>
          <a:xfrm>
            <a:off x="1979640" y="4653000"/>
            <a:ext cx="244800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97556896_1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0" y="2205000"/>
            <a:ext cx="9144000" cy="4653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1"/>
          <p:cNvSpPr/>
          <p:nvPr/>
        </p:nvSpPr>
        <p:spPr>
          <a:xfrm>
            <a:off x="1455840" y="5248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юджетный кодекс РФ (принят в 1998 году) устанавливает общие принципы бюджетного законодательства РФ, организации и функционирования бюджетной системы РФ, определяет основы бюджетного процесса и межбюджетных отно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6"/>
          <p:cNvSpPr/>
          <p:nvPr/>
        </p:nvSpPr>
        <p:spPr>
          <a:xfrm>
            <a:off x="1563840" y="189000"/>
            <a:ext cx="67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333399"/>
                </a:solidFill>
                <a:uFillTx/>
                <a:latin typeface="Arial"/>
              </a:rPr>
              <a:t>Основные понятия</a:t>
            </a: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7"/>
          <p:cNvSpPr/>
          <p:nvPr/>
        </p:nvSpPr>
        <p:spPr>
          <a:xfrm>
            <a:off x="376200" y="2133720"/>
            <a:ext cx="851688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Бюджет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–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Консолидированный бюджет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– свод бюджетов бюджетной системы РФ на соответствующей территории без учета межбюджетных трансфертов между этими бюджетами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Бюджетная система РФ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– основанная на экономических отношениях и государственном устройстве РФ, регулируемая законодательством РФ совокупность федерального бюджета, бюджетов субъектов РФ, местных бюджетов и бюджетов государственных внебюджетных фондов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Бюджетный процесс РФ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– это регламентированная законом деятельность органов государственной власти и местного самоуправления по составлению, рассмотрению, утверждению и исполнению бюджетов соответствующих уровней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97556896_1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540000" y="2637360"/>
            <a:ext cx="82090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95280" y="2852640"/>
            <a:ext cx="842472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Дефицит бюджета</a:t>
            </a:r>
            <a:r>
              <a:rPr b="1" i="1" lang="ru-RU" sz="1800" spc="-1" strike="noStrike">
                <a:solidFill>
                  <a:srgbClr val="2b4a76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– превышение расходов бюджета над его доходам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Профицит бюджета</a:t>
            </a:r>
            <a:r>
              <a:rPr b="1" i="1" lang="ru-RU" sz="1800" spc="-1" strike="noStrike" u="sng">
                <a:solidFill>
                  <a:srgbClr val="2b4a76"/>
                </a:solidFill>
                <a:uFillTx/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2b4a76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– превышение доходов над его        расходам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Муниципальный долг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язательства, возникающие из муниципальных займов (заимствований), принятых на себя муниципальным образованием гарантий (поручительств), а также принятые на себя муниципальным образованием обязательства третьих лиц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Важно: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обязательное требование, предъявляемое к составлению и утверждению бюджета – это его сбалансированность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lenavzyat-kredit-na-pogashenie-kredita"/>
          <p:cNvPicPr/>
          <p:nvPr/>
        </p:nvPicPr>
        <p:blipFill>
          <a:blip r:embed="rId2"/>
          <a:stretch/>
        </p:blipFill>
        <p:spPr>
          <a:xfrm>
            <a:off x="1835280" y="333360"/>
            <a:ext cx="1199880" cy="1371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lenavzyat-kredit-na-pogashenie-kredita"/>
          <p:cNvPicPr/>
          <p:nvPr/>
        </p:nvPicPr>
        <p:blipFill>
          <a:blip r:embed="rId3"/>
          <a:stretch/>
        </p:blipFill>
        <p:spPr>
          <a:xfrm>
            <a:off x="5580000" y="404640"/>
            <a:ext cx="1200240" cy="137160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2"/>
          <p:cNvSpPr/>
          <p:nvPr/>
        </p:nvSpPr>
        <p:spPr>
          <a:xfrm>
            <a:off x="5940360" y="260280"/>
            <a:ext cx="486000" cy="4269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3"/>
          <p:cNvSpPr/>
          <p:nvPr/>
        </p:nvSpPr>
        <p:spPr>
          <a:xfrm>
            <a:off x="2195640" y="189000"/>
            <a:ext cx="485640" cy="399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395280" y="1557360"/>
            <a:ext cx="41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Доходы бюджета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– поступающие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бюджет денежные средств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4572000" y="1557360"/>
            <a:ext cx="42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Расходы бюджет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– выплачиваемые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бюджета  денежные средств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97556896_1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540000" y="2637360"/>
            <a:ext cx="82090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332000" y="0"/>
            <a:ext cx="748980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Межбюджетные трансферты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– средства, предоставляемые одним бюджетом бюджетной системы Российской Федерации другому бюджету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з областного и федерального бюджетов в бюджет Алексеевского района перечисляются межбюджетные трансферты в форме: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Дотаций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– без определения конкретной цели их использования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Субсидий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– средства, предоставляемые бюджету другого уровня бюджетной системы РФ, физическому или юридическому лицу на условиях долевого финансирования целевых расходов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Субвенций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– бюджетные средства, предоставляемые бюджету другого уровня бюджетной системы РФ на безвозмездной и безвозвратной основах на осуществление целевых расходов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Иных межбюджетных трансфертов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66559"/>
          <p:cNvPicPr/>
          <p:nvPr/>
        </p:nvPicPr>
        <p:blipFill>
          <a:blip r:embed="rId2"/>
          <a:stretch/>
        </p:blipFill>
        <p:spPr>
          <a:xfrm>
            <a:off x="1908000" y="5516640"/>
            <a:ext cx="56516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97556896_1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540000" y="2637360"/>
            <a:ext cx="82090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476360" y="189000"/>
            <a:ext cx="76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4716360" y="3191040"/>
            <a:ext cx="402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4572000" y="4649760"/>
            <a:ext cx="41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395280" y="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Что регулирует Бюджетный кодекс Российской Федерации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324000" y="404640"/>
            <a:ext cx="849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ый кодекс Российской Федерации (принят в 1998 году) устанавливает общие принципы бюджетного законодательства Российской Федерации, организации и функционирования бюджетной системы Российской Федерации, определяет основы бюджетного процесса и межбюджетных отношений, основания и виды ответственности за нарушение бюджетного законодательства Российской Федерации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0" y="1773360"/>
            <a:ext cx="9144000" cy="398880"/>
          </a:xfrm>
          <a:prstGeom prst="rect">
            <a:avLst/>
          </a:prstGeom>
          <a:solidFill>
            <a:srgbClr val="ff969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ый кодекс Российской Федераци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4920" y="2205000"/>
          <a:ext cx="9074160" cy="4543560"/>
        </p:xfrm>
        <a:graphic>
          <a:graphicData uri="http://schemas.openxmlformats.org/drawingml/2006/table">
            <a:tbl>
              <a:tblPr/>
              <a:tblGrid>
                <a:gridCol w="2614680"/>
                <a:gridCol w="2165400"/>
                <a:gridCol w="2165400"/>
                <a:gridCol w="2128680"/>
              </a:tblGrid>
              <a:tr h="12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ь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ие положения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ь I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ая система Российской Федерации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ь I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процесс в  Российской Федерации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ь I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нарушения и бюджетные меры принуждения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дии бюджетного законодательства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уктура бюджетной системы Российской Федерации и бюджетной классификации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дии бюджетного процесса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нарушения и их виды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ие понятия и термины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ципы бюджетной системы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номочия участников бюджетного процесса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меры принуждения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граничение бюджетных полномочий Российской Федерации, субъектов Российской Федерации и муниципальных образований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ые положения о доходах и расходах бюджетов, государственном (муниципальном) долге, межбюджетных трансфертов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ы государственного  (муниципального) финансового контроля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97556896_1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1187280" y="260640"/>
            <a:ext cx="79567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Основные нормативные правовые акты, регламентирующие бюджетное устройство и процесс на территории Алексеевского райо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68360" y="1700280"/>
            <a:ext cx="8424720" cy="41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юджетный кодекс РФ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шение Муниципального совета Алексеевского района «Об утверждении Положения о бюджетном устройстве и бюджетном процессе в муниципальном районе «Алексеевский район и г.Алексеевка» Белгородской области»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шение Муниципального совета Алексеевского района о бюджете Алексеевского района на очередной финансовый год и плановый период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7T06:41:24Z</dcterms:created>
  <dc:creator>...</dc:creator>
  <dc:description/>
  <dc:language>en-US</dc:language>
  <cp:lastModifiedBy>Evdokimova</cp:lastModifiedBy>
  <cp:lastPrinted>2015-07-16T13:54:53Z</cp:lastPrinted>
  <dcterms:modified xsi:type="dcterms:W3CDTF">2015-07-16T13:55:06Z</dcterms:modified>
  <cp:revision>149</cp:revision>
  <dc:subject/>
  <dc:title>Слайд 1</dc:title>
</cp:coreProperties>
</file>