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6635-0DC5-4967-9273-6A8F5D33E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059B-A494-41D1-9AA5-3658FA1DF1B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144-44D7-4335-9AD3-ECFA1262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D3E-9F81-4957-8CFF-E3428940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A836C-5C77-49FF-BF12-FF28201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93E78-F7C3-48BA-8F34-08F28FC2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B0047-ACFA-4C0A-9BF4-8AB471D9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82F15-18BC-4BA1-AAF7-A95A6065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07BCA-F9C5-4C8E-BADB-3A89DF69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2DA42-787E-4112-A5AB-91F50BDD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AD09D-2AF2-4F77-AF96-FD72979A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3FA73-6B5C-4524-901E-6336D1F1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54215-4DA3-4605-8EDC-AF545ECB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3A7B9-5556-48E8-9D46-B0F95A29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E64-75F3-4275-9D3F-20C1FDD2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93851-59C3-4181-A927-E953564E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263CD-724C-448D-8FC8-3E1AA45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F8EC5-06CE-4399-9AB3-48EB29A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7DC23-5CD9-4DB9-9EE5-ED7AFB63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6FCBA-CB54-4881-A9CB-275D6B9F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A1FE3-1F51-4804-B71F-E867BBE9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897FA-9B1B-4285-9C8D-CE6863D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BC75B-B549-458C-938E-7E4D573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62021-A736-4C07-9171-970F7872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A54D8-9514-434A-B9D8-FA491EC6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2C5-1D91-4164-BC98-63769638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52C95-7A68-4F3E-8BDF-BDED28C8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69FA1-A4BD-4EF9-A90D-D03D5E16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1B1A6-73BB-4644-A555-F3F5CA8F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E607D-CFE2-41FC-858B-5AC93B99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FE7CF-222E-4768-A699-F1D825E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F429F-B7E4-4BE4-9917-231C899B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01EF6-BB42-4452-BCF7-6512E9A7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CE88F-09CA-4CE0-A1FE-19112B3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D998A-56D3-48F4-BFBE-61F739A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A0B3C-ECEC-43C5-AD03-16562F32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165-9425-4CFF-8769-AE622D32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9E408-C059-45D4-B01B-7057AE28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60DDF-6780-4BF7-9FF5-3DA7933C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031AF-63B6-49C4-8962-E23FABEB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CA4EE-860A-46AF-957F-21DEFD21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EE971-113A-462D-94C8-59E24867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CF9D3-8DF2-4C31-8743-75C917F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D2D1F-FB31-4FB8-A382-4F973708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3A9E5-11F0-4C6A-BAA5-018C83E3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78A42-571E-4D15-B210-2023703A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A4B8A-9340-4321-AD07-C75334EC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08A0-19C6-4E06-A654-6E65C504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E07E5-B261-4083-A749-75367CA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74018-D846-4779-82C6-A5EDF37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35647-1568-4789-8AC4-7A904D59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7744F-94E9-4A94-86E5-51390401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94B4D-2B5D-4116-9C68-B67B8DDB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4BA3-FD5D-43CC-94B0-077D38C8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7E6C-0855-4209-B670-CA6F4084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7B32-F24E-4D4A-8BFE-769153CF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9687-DCB0-4091-9EAD-3150018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9108-8A03-47FA-B1A3-5F9453C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2A0-97C6-4C13-A7BF-7873334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22FF-6437-4A52-A477-8CD075D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10BF-9408-47AE-9831-FC43BED6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027-592F-4AEC-9BF9-1185010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34E7-7FD6-409D-8C7C-E8C93509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33D6-43BE-4852-B264-043313D7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7B28-327A-4B2B-BC3D-11516FB8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15B7-69B2-48B0-B63D-25D61652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0940-1D5F-4394-9357-0420C8BE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39A6-48F5-41C3-B90B-FC9E59E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047B1-4C54-4B51-A91D-1E1C0C3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942-181D-4D32-9C5E-0A19EA81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DFC5-4F64-42D5-B388-20ED3930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464A-BB0F-4CC9-88BB-E2A2EE2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C7FB-99A4-4B92-8246-469EB48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80F8-C55D-4A47-BC40-505943E0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C4C5-2290-4187-9D7D-245D9C72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58DC-A32B-4152-901B-88B024FB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2AD9-632D-4354-B7CA-C44DA998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3FF5-BC04-4EE9-911D-728B8096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C274-1653-40B5-9C14-9AFBFD0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FF5A-CA85-4E80-BB99-DE41450B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9B0-E790-41E2-A24B-AF3A5FA1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23361-9CF8-4256-85FB-206BBF79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12FD-2C36-4B68-B6EA-29DFF3D0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9CF4A-3431-4DE1-9C05-5F43D745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B1BB-4244-4BDF-90E5-18887F63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6938E-A0C1-4818-8B04-BBEE4C3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EB91-50A3-4C0E-8BF7-823E8884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2BAE-6FB4-4325-9AFB-210F0126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5B90-29B4-4A11-9544-EEAEDC4D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38DE-C7E5-491A-BCC3-D1308AAE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A8DEF-E7EA-4D30-97DE-BF666DB5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C36-D3B7-4D9B-9461-2BF69D81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27745-3C75-4244-99F0-9AE69246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69B21-1C0A-4507-A59C-09A554CD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3910-553B-4C98-8D7F-80A64A5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67BE-47D5-471D-B834-0A3CEE6F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64E72-DDFB-46CA-890D-9055A375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98F74-E330-41B2-88BC-B10410C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AE310-DC50-4466-8895-6E21D48E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FBEC-2FAF-420E-9CB2-3BEF1345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D512C-EE4A-46EB-A8B8-451BD88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82A1-86A0-4325-A91C-7B8FE5D5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254-589D-4F83-8BE9-F1DCA88A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B03F-115B-4E83-BB69-6A9C365F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F403-DAA6-46F5-B76B-78EBF288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9A4E-03EE-4E12-AC10-BF98AEEA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C094-14CA-4338-A303-F9941CA6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B4202-5DB5-470E-B86E-0CC0739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2E93B-4445-4662-9B29-526E7771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F031-B57E-4296-A2DD-8B439153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B0038-812A-4F8A-8E53-20DB84E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0DED-B8B9-4A08-8857-7DC02C79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3903-7BAB-49C7-8826-61DC61F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ACB-D60F-4B62-B76B-9F96F07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FDFA6-DF2E-477D-AEAB-88294847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5195B-590F-4392-98BF-DB775FE4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198B3-19AD-4BDD-B14D-9E9D29FA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76FE3-C5D3-46F2-98DB-249F3C0D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175F-2CC8-4BB3-98DF-8537AD1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8C43-62EC-4199-9984-2C5079CE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50018-A067-40A9-9D54-0B7B9619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593EE-8861-4A20-8D91-127E3A0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C8F4-B1B4-4823-A94A-504585E5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E9BC9-8B16-43E8-8079-F380415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3C6-CE0F-45C0-987B-B92BAD6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1403E-0149-466B-BF31-E35AEF7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BC31-DA09-41E1-80FB-7C957E2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F629E-9461-4610-BFDD-C58F0D67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63B4D-ADC9-4FF2-B4DC-D7929C02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AEF3-5470-4A99-8B1E-775A6E5A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46821-C6EC-487B-B964-8B16C5EA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AF3DB-CD4E-4C04-B546-AAB26C06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10769-4475-4DCC-9A90-0F77D1ED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D5368-8090-4697-9F93-EEDA1EE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29E7A-34AA-4C49-A12C-35A6D251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AB5-1C85-4786-930C-781651F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3C53D-8D6D-4447-835B-5CB6570D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6C934-150F-4009-ABCB-DB73F05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BAA99-18CA-4BFB-8D7B-A51404F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BCB4-621B-466F-B985-57E0CF8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3B23-E889-44A6-A297-1B70AA21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112F-1900-49BD-B4F9-9E1B4194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C2D6F-966F-4CED-91D9-7C76EA1F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E7467-903F-4588-A178-AC23DC08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61CC2-3854-4265-845F-0CAEF68B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015CB-0DDD-435F-9238-A25F27D8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408D-D296-4D8A-9908-61F2AA35F8D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8400-EE49-4C26-BAC5-F0FADEEF0546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2A50-2A64-416C-BA6E-9B6227982E1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3960-EE5F-4E87-A7A7-1A8FD371C99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4C37-247F-4367-B0DF-D6628C0D0C6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542-4A95-43DA-BF2D-3E39202F2A6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042F-7FD2-4945-83D8-593B452B334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8EC-318A-436F-81EC-1CA9C3B5B647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4029120"/>
            <a:ext cx="8631360" cy="12600"/>
            <a:chOff x="512640" y="4029120"/>
            <a:chExt cx="8631360" cy="1260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402912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5286-D9F2-4864-84FD-74761CEBD23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54F7-1C65-4B14-98A8-B3E5CDE4861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23BD-EEDE-46AA-8B90-545981FCA4A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11E6-6CF8-417B-8188-E94866F93A1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528A-75BD-43F8-8158-FE2016D3FDC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AC2-7384-49D9-A075-D118E94BBE1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5121-FE3A-418E-A2F7-1F34E8273FF8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7B9D-49A9-485E-881A-C1F2E533F1E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39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F6BD-0C72-4B02-8056-EC1F7712358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ECFF-277C-44CB-82CA-238157F956D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CD9A-4E25-45D9-AC18-BE69634BDDB7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82C64A30-85F3-46F1-A313-5716547B631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3204-F804-45D2-BA18-FDFD23C2B492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D153-62F4-4E4B-B309-5DCFAE576A95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34C7-4668-486C-8619-45157ADCF4D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7B5-6C00-4DE1-B8AF-0246613EDAD2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Рисунок 5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143000" cy="1360440"/>
          </a:xfrm>
          <a:prstGeom prst="rect">
            <a:avLst/>
          </a:prstGeom>
          <a:ln w="0">
            <a:noFill/>
          </a:ln>
        </p:spPr>
      </p:pic>
      <p:sp>
        <p:nvSpPr>
          <p:cNvPr id="557" name="Номер слайда 6"/>
          <p:cNvSpPr/>
          <p:nvPr/>
        </p:nvSpPr>
        <p:spPr>
          <a:xfrm>
            <a:off x="8643960" y="6429240"/>
            <a:ext cx="357120" cy="28584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2536-2D0A-4ACC-A310-AF01911B64DE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9"/>
          <p:cNvSpPr/>
          <p:nvPr/>
        </p:nvSpPr>
        <p:spPr>
          <a:xfrm>
            <a:off x="32400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Franklin Gothic Book"/>
              </a:rPr>
              <a:t>Белгород, 2025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одзаголовок 4"/>
          <p:cNvSpPr/>
          <p:nvPr/>
        </p:nvSpPr>
        <p:spPr>
          <a:xfrm>
            <a:off x="401760" y="2276640"/>
            <a:ext cx="8458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Arial"/>
              </a:rPr>
              <a:t>Муниципальный район (округ) или городской 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61440" y="3500280"/>
            <a:ext cx="845820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46"/>
                </a:solidFill>
                <a:latin typeface="Franklin Gothic Medium"/>
              </a:rPr>
              <a:t>ПРЕЗЕНТАЦИЯ  ПРОЕКТА ПО РАЗВИТИЮ ХОЗЯЙСТВА ЗАЯВИТЕЛ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«НАЗВАНИЕ ПРОЕКТА»</a:t>
            </a: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1" name="TextBox 14"/>
          <p:cNvSpPr/>
          <p:nvPr/>
        </p:nvSpPr>
        <p:spPr>
          <a:xfrm>
            <a:off x="357120" y="5572080"/>
            <a:ext cx="57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Наименование заяв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Franklin Gothic Book"/>
              </a:rPr>
              <a:t>Фамилия Имя От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3120" y="47160"/>
            <a:ext cx="84981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300"/>
            </a:br>
            <a:r>
              <a:rPr b="0" lang="ru-RU" sz="33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2400"/>
            </a:br>
            <a:endParaRPr b="0" lang="en-US" sz="33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8643960" y="6500880"/>
            <a:ext cx="347760" cy="28584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BB0B-F82C-4F2C-8EEF-B832220404AB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"/>
          <p:cNvSpPr/>
          <p:nvPr/>
        </p:nvSpPr>
        <p:spPr>
          <a:xfrm>
            <a:off x="177840" y="1700280"/>
            <a:ext cx="423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нахождение основной (утраченной) материально-технической базы с адресом, кадастровыми номерами земельных участков и помещений, картой расположения и фотограф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 налич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4735440" y="1700280"/>
            <a:ext cx="423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нахождение оставшейся материально-технической базы с адресом, кадастровыми номерами земельных участков и помещений, картой расположения и фотограф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 налич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3120" y="47160"/>
            <a:ext cx="849816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300"/>
            </a:br>
            <a:r>
              <a:rPr b="0" lang="ru-RU" sz="33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2400"/>
            </a:br>
            <a:endParaRPr b="0" lang="en-US" sz="33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8643960" y="6500880"/>
            <a:ext cx="347760" cy="28584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EA4D-E759-49E2-BD90-6E00D87AC3A0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112680" y="1330200"/>
            <a:ext cx="88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сельскохозяйственной деятельности (до СВ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76120" y="1851120"/>
          <a:ext cx="8498160" cy="1671480"/>
        </p:xfrm>
        <a:graphic>
          <a:graphicData uri="http://schemas.openxmlformats.org/drawingml/2006/table">
            <a:tbl>
              <a:tblPr/>
              <a:tblGrid>
                <a:gridCol w="1235160"/>
                <a:gridCol w="1192320"/>
                <a:gridCol w="1307880"/>
                <a:gridCol w="1208160"/>
                <a:gridCol w="1225440"/>
                <a:gridCol w="1114560"/>
                <a:gridCol w="1214640"/>
              </a:tblGrid>
              <a:tr h="10540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лощадь обрабатываемых земель, 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аименование производимой сельскохозяйственной продук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оголовье сельскохозяйственных животных (наименование,  кол-во голов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ашинно-тракторный парк (наименование, кол-во ед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оличество трудоустроенных работников, че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аловый сбор сельскохо-зяйственной продукции, тон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тоимость произведен-ной продукции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078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096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322200" y="4708440"/>
          <a:ext cx="8499600" cy="1671840"/>
        </p:xfrm>
        <a:graphic>
          <a:graphicData uri="http://schemas.openxmlformats.org/drawingml/2006/table">
            <a:tbl>
              <a:tblPr/>
              <a:tblGrid>
                <a:gridCol w="1235160"/>
                <a:gridCol w="1193760"/>
                <a:gridCol w="1306440"/>
                <a:gridCol w="1162080"/>
                <a:gridCol w="1173240"/>
                <a:gridCol w="1214280"/>
                <a:gridCol w="1214640"/>
              </a:tblGrid>
              <a:tr h="1054080"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лощадь обрабатываемых земель, 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Наименование производимой сельскохозяйственной продук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Поголовье сельскохозяйственных животных (наименование,  кол-во голов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ашинно-тракторный парк (наименование, кол-во ед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Количество трудоустроенных работников, че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Валовый сбор сельскохо-зяйственной продукции, тон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Стоимость произведен-ной продукции, тыс.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08160"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09600"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571" name="TextBox 5"/>
          <p:cNvSpPr/>
          <p:nvPr/>
        </p:nvSpPr>
        <p:spPr>
          <a:xfrm>
            <a:off x="182520" y="3746520"/>
            <a:ext cx="87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сельскохозяйствен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е утраты части МТ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404640"/>
            <a:ext cx="86868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68200" y="1052640"/>
          <a:ext cx="8715600" cy="5549760"/>
        </p:xfrm>
        <a:graphic>
          <a:graphicData uri="http://schemas.openxmlformats.org/drawingml/2006/table">
            <a:tbl>
              <a:tblPr/>
              <a:tblGrid>
                <a:gridCol w="1998720"/>
                <a:gridCol w="6716880"/>
              </a:tblGrid>
              <a:tr h="158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: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 – запланированное желаемое состояние объекта управления, она должна соответствовать следующим требованиям: отражать ожидаемый социально-экономический полезный; эффект от реализации проекта; иметь измеримые количественные показатели и сроки достижения; быть достижимой в реальных условиях, в которых осуществляется проект; полностью находиться в сфере ответственности и влияния исполнителя проекта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достижения цели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обновление сельскохозяйственной деятельности путем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 (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щения МТБ или перепрофилирования  деятельности отрасли АПК)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(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альный путь достижения обозначенной цели (например: приобретение техники, оборудования для переработк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роекта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4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ущественный   либо    неимущественный   результат,   который должен быть достигнут по факту достижения цели проекта (например: цех по переработке сельскохозяйственной продукции мощностью __тонн в год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у: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40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у проекта, которые будут учитываться при определении    достижения    данных    результатов.    Определяют качественные и    количественные    характеристики    результата проекта (например: помещение, оборудование производительностью __ тонн в год, специализированная техника в количестве __ единиц и т.д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результата проекта: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 потребителей (область применения) результатов проекта (например: население, сельскохозяйственные товаропроизводители Белгородской област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4" name="Номер слайда 4"/>
          <p:cNvSpPr/>
          <p:nvPr/>
        </p:nvSpPr>
        <p:spPr>
          <a:xfrm>
            <a:off x="8643960" y="6429240"/>
            <a:ext cx="34776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E36C-B4D5-471B-9C6E-BD00616DC370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4157640" y="1159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2920" y="7128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8643960" y="6429240"/>
            <a:ext cx="34776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77A6-505F-413F-85A7-FA10BDBA5468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281160" y="1352520"/>
            <a:ext cx="851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местонахождение участка, участвующего в реализации проекта                   с адресом, кадастровым номером, картой расположения, информацией об удаленности от государственной границы и фотографиями (при налич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268200" y="2708280"/>
            <a:ext cx="8764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способ возобновления деятельности заявител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ществлено перемещение МТБ из _____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именование района/ГО, наименование населенного пункта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_______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именование района/ГО, наименование населенного пункт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ществлено перепрофилирование сельскохозяйственного производства                  с _____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авление деятельности/наименование отрасли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авление деятельности/наименование отрасл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6"/>
          <p:cNvSpPr/>
          <p:nvPr/>
        </p:nvSpPr>
        <p:spPr>
          <a:xfrm>
            <a:off x="336600" y="5181480"/>
            <a:ext cx="85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 приобретаемого имущества в рамках гр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2920" y="7128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8643960" y="6429240"/>
            <a:ext cx="34776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D35B-CA72-43F8-AD23-67A9FBF5D6FF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395280" y="1197000"/>
            <a:ext cx="86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ное описание измененных параметров и ситуации в соответствующей области после  окончания проекта, желательно дополнительное размещение графиков и таб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866960" y="4324320"/>
          <a:ext cx="5662440" cy="1889280"/>
        </p:xfrm>
        <a:graphic>
          <a:graphicData uri="http://schemas.openxmlformats.org/drawingml/2006/table">
            <a:tbl>
              <a:tblPr/>
              <a:tblGrid>
                <a:gridCol w="766800"/>
                <a:gridCol w="3055680"/>
                <a:gridCol w="1839960"/>
              </a:tblGrid>
              <a:tr h="79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изводимой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производства натур. выражении, 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5" name="TextBox 7"/>
          <p:cNvSpPr/>
          <p:nvPr/>
        </p:nvSpPr>
        <p:spPr>
          <a:xfrm>
            <a:off x="2081160" y="3473280"/>
            <a:ext cx="52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роизводства прод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8643960" y="6429240"/>
            <a:ext cx="34776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3381-F168-4859-9700-2B1CA98C96C4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285840" y="6357960"/>
            <a:ext cx="77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Franklin Gothic Book"/>
              </a:rPr>
              <a:t>* - завершенные блоки работ  закрашиваются зеленым цве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65040" y="1052640"/>
          <a:ext cx="8605800" cy="4119480"/>
        </p:xfrm>
        <a:graphic>
          <a:graphicData uri="http://schemas.openxmlformats.org/drawingml/2006/table">
            <a:tbl>
              <a:tblPr/>
              <a:tblGrid>
                <a:gridCol w="325440"/>
                <a:gridCol w="1440000"/>
                <a:gridCol w="720720"/>
                <a:gridCol w="718920"/>
                <a:gridCol w="720720"/>
                <a:gridCol w="432000"/>
                <a:gridCol w="431640"/>
                <a:gridCol w="360360"/>
                <a:gridCol w="432000"/>
                <a:gridCol w="360360"/>
                <a:gridCol w="431640"/>
                <a:gridCol w="432000"/>
                <a:gridCol w="360360"/>
                <a:gridCol w="360360"/>
                <a:gridCol w="358560"/>
                <a:gridCol w="360360"/>
                <a:gridCol w="360360"/>
              </a:tblGrid>
              <a:tr h="3661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Длительность, д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Нача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Окон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Times New Roman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3 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 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 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 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 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3 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 к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faec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08000" y="1143000"/>
          <a:ext cx="8883720" cy="4148280"/>
        </p:xfrm>
        <a:graphic>
          <a:graphicData uri="http://schemas.openxmlformats.org/drawingml/2006/table">
            <a:tbl>
              <a:tblPr/>
              <a:tblGrid>
                <a:gridCol w="458640"/>
                <a:gridCol w="3929040"/>
                <a:gridCol w="868320"/>
                <a:gridCol w="933480"/>
                <a:gridCol w="873360"/>
                <a:gridCol w="714240"/>
                <a:gridCol w="1106640"/>
              </a:tblGrid>
              <a:tr h="456840"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 проекта,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источники (областной бюджет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внебюджетных источ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ем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ются наименования основных блоков работ проекта (в соответствии с предыдущем слайдо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Номер слайда 3"/>
          <p:cNvSpPr/>
          <p:nvPr/>
        </p:nvSpPr>
        <p:spPr>
          <a:xfrm>
            <a:off x="8643960" y="6429240"/>
            <a:ext cx="34776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E187-67B4-4FCA-98C6-B822F7E0BE4C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4"/>
          <p:cNvSpPr/>
          <p:nvPr/>
        </p:nvSpPr>
        <p:spPr>
          <a:xfrm>
            <a:off x="324000" y="6165720"/>
            <a:ext cx="7993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* - указываются средства Гр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8572680" y="6429240"/>
            <a:ext cx="419040" cy="292320"/>
          </a:xfrm>
          <a:prstGeom prst="rect">
            <a:avLst/>
          </a:prstGeom>
          <a:solidFill>
            <a:srgbClr val="1faecd"/>
          </a:solidFill>
          <a:ln w="9360">
            <a:solidFill>
              <a:srgbClr val="062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D4D-6F91-4AC4-AB4B-3ADE99AFE428}" type="slidenum">
              <a:rPr b="1" lang="ru-RU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24000" y="5877000"/>
          <a:ext cx="6278400" cy="853920"/>
        </p:xfrm>
        <a:graphic>
          <a:graphicData uri="http://schemas.openxmlformats.org/drawingml/2006/table">
            <a:tbl>
              <a:tblPr/>
              <a:tblGrid>
                <a:gridCol w="3543120"/>
                <a:gridCol w="2735280"/>
              </a:tblGrid>
              <a:tr h="853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 и печать / подпись заявител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7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3640" y="3865680"/>
            <a:ext cx="84582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8000"/>
          </a:bodyPr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  <a:p>
            <a:pPr marL="5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Руководитель проекта:</a:t>
            </a:r>
            <a:endParaRPr b="0" lang="en-US" sz="1600" spc="-1" strike="noStrike">
              <a:solidFill>
                <a:srgbClr val="464646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Yulia Agafonova</cp:lastModifiedBy>
  <cp:lastPrinted>2025-02-12T08:45:50Z</cp:lastPrinted>
  <dcterms:modified xsi:type="dcterms:W3CDTF">2025-02-14T11:31:49Z</dcterms:modified>
  <cp:revision>1092</cp:revision>
  <dc:subject/>
  <dc:title>Слайд 1</dc:title>
</cp:coreProperties>
</file>